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0D6-1563-4C78-98B9-1E2B7678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D17-E96D-40DA-9E70-B1449FC4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303-1247-447A-83F1-7186C5F5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4CA-335B-40A5-A30D-541C91A1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8301-5577-464A-A1CC-82EE41EA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98B8-5D28-486C-9878-6F9840F6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1EA6-A83E-49E5-B24F-B9FAC719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09C1-75B4-4344-8BB2-48754DD6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CA21-2BD5-409E-A7D0-7C93986A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560C-E42F-4908-9A0B-42ADF178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2D2B-92BF-4CE0-A143-0E4849F4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F84-D53F-4ADA-9ADB-BF198639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E8B8-D1B6-44E6-9552-FC4D7396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1BD8-FBA4-4282-83E7-6AAE8E2A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D85E-DD70-4F9C-B2ED-6B5DEE56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C2A0-13EB-4FF4-8E9D-A886AC9D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A7F7-19B7-46F7-9AE3-AF4B6833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C20F-370D-44C7-BE7C-45B8B17E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47964-4B38-4EFF-AF02-AC0D40C6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B2162-A79A-415F-86BE-A761076C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C833-7E18-43DA-ACC5-44F1D90D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8FC15-A1F9-4E39-A973-F5E1CED0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E5F-482E-4F32-8A5F-BB247BC5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4F5F9-57F9-4AE8-B21F-940DC284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07EFF-C8E7-41AF-8DA4-106A2B4C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65F17-5633-46CF-AB79-8396F090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80D0E-4E28-4C79-B23D-A4F77EFC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63AB8-EEEA-4D6C-B0CC-549C2E8F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8A3BA-5C2D-459D-917C-31F6976F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AD2E-DE6C-4727-B62D-7A64D67D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761-0F15-409A-9435-BA4CF054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480-6E74-44E4-9EE0-1D669392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A46-31A2-4E50-886A-17F27D4B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861-E5DA-473A-BE28-D848C9F9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BB3-2BA0-4A53-B4ED-44E1144C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C49-2FCE-4439-8585-C89F5AB7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8888-00C4-4A32-986E-CA97B57642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385c"/>
                </a:solidFill>
                <a:latin typeface="幼圆"/>
              </a:rPr>
              <a:t>Click to edit the title text format</a:t>
            </a: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948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79036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9814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c6f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78A5-EE90-4CED-B51C-FE182AA0223A}" type="slidenum">
              <a:rPr b="0" lang="zh-CN" sz="1200" spc="-1" strike="noStrike">
                <a:solidFill>
                  <a:srgbClr val="6c6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buClr>
                <a:srgbClr val="f08ca1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cb69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385c"/>
                </a:solidFill>
                <a:latin typeface="幼圆"/>
              </a:rPr>
              <a:t>Click to edit the title text format</a:t>
            </a: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buClr>
                <a:srgbClr val="f08ca1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cb69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D3CF-A9DF-4ED0-938F-2AD25472B8E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11280" y="1486080"/>
            <a:ext cx="439272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一个梦</a:t>
            </a:r>
            <a:br>
              <a:rPr sz="4000"/>
            </a:b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唤醒</a:t>
            </a:r>
            <a:br>
              <a:rPr sz="4000"/>
            </a:b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另一个梦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771280" y="4005000"/>
            <a:ext cx="36594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a8550"/>
                </a:solidFill>
                <a:latin typeface="楷体_GB2312"/>
                <a:ea typeface="楷体_GB2312"/>
              </a:rPr>
              <a:t>棠外附小  冯文</a:t>
            </a:r>
            <a:endParaRPr b="0" lang="en-US" sz="24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1440" y="117360"/>
            <a:ext cx="76309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无尽的梦</a:t>
            </a:r>
            <a:br>
              <a:rPr sz="2800"/>
            </a:b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</a:t>
            </a:r>
            <a:r>
              <a:rPr b="0" lang="zh-CN" sz="2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冯文</a:t>
            </a:r>
            <a:endParaRPr b="0" lang="en-US" sz="2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4120" y="1260360"/>
            <a:ext cx="829152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叶子的梦是一条小船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装满了它的奇思妙想。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小溪推着它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鱼儿呵护它。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一边飘着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一边想着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飘到遥远的地方</a:t>
            </a:r>
            <a:r>
              <a:rPr b="0" lang="en-US" sz="2800" spc="-1" strike="noStrike">
                <a:solidFill>
                  <a:srgbClr val="940422"/>
                </a:solidFill>
                <a:latin typeface="幼圆"/>
                <a:ea typeface="楷体_GB2312"/>
              </a:rPr>
              <a:t>……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385c"/>
                </a:solidFill>
                <a:latin typeface="幼圆"/>
                <a:ea typeface="楷体"/>
              </a:rPr>
              <a:t>合作创编儿童诗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0480" y="1026720"/>
            <a:ext cx="804060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2835360" y="130320"/>
            <a:ext cx="411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幼圆"/>
                <a:ea typeface="楷体"/>
              </a:rPr>
              <a:t>实现诗人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480" y="1375920"/>
            <a:ext cx="63403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385c"/>
                </a:solidFill>
                <a:latin typeface="幼圆"/>
              </a:rPr>
              <a:t>以“梦”为主题写一首儿童诗：</a:t>
            </a:r>
            <a:endParaRPr b="0" lang="en-US" sz="32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63" name=""/>
          <p:cNvSpPr/>
          <p:nvPr/>
        </p:nvSpPr>
        <p:spPr>
          <a:xfrm>
            <a:off x="1150920" y="2639880"/>
            <a:ext cx="5365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语言凝练，语句优美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格式正确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3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书写美观、整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01.倒映的彩色蜡笔画~雕塑" descr=""/>
          <p:cNvPicPr/>
          <p:nvPr/>
        </p:nvPicPr>
        <p:blipFill>
          <a:blip r:embed="rId1"/>
          <a:stretch/>
        </p:blipFill>
        <p:spPr>
          <a:xfrm>
            <a:off x="8317080" y="6093000"/>
            <a:ext cx="618840" cy="618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5280" y="6453360"/>
            <a:ext cx="360360" cy="50472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504720"/>
              <a:gd name="textAreaBottom" fmla="*/ 482400 h 504720"/>
            </a:gdLst>
            <a:ahLst/>
            <a:rect l="textAreaLeft" t="textAreaTop" r="textAreaRight" b="textAreaBottom"/>
            <a:pathLst>
              <a:path w="21600" h="30244">
                <a:moveTo>
                  <a:pt x="0" y="0"/>
                </a:moveTo>
                <a:lnTo>
                  <a:pt x="21600" y="0"/>
                </a:lnTo>
                <a:lnTo>
                  <a:pt x="21600" y="30244"/>
                </a:lnTo>
                <a:lnTo>
                  <a:pt x="0" y="30244"/>
                </a:lnTo>
                <a:close/>
              </a:path>
              <a:path fill="lightenLess" w="21600" h="3024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0244">
                <a:moveTo>
                  <a:pt x="21600" y="0"/>
                </a:moveTo>
                <a:lnTo>
                  <a:pt x="21600" y="30244"/>
                </a:lnTo>
                <a:lnTo>
                  <a:pt x="20250" y="28894"/>
                </a:lnTo>
                <a:lnTo>
                  <a:pt x="20250" y="1350"/>
                </a:lnTo>
                <a:close/>
              </a:path>
              <a:path fill="darkenLess" w="21600" h="30244">
                <a:moveTo>
                  <a:pt x="21600" y="30244"/>
                </a:moveTo>
                <a:lnTo>
                  <a:pt x="0" y="30244"/>
                </a:lnTo>
                <a:lnTo>
                  <a:pt x="1350" y="28894"/>
                </a:lnTo>
                <a:lnTo>
                  <a:pt x="20250" y="28894"/>
                </a:lnTo>
                <a:close/>
              </a:path>
              <a:path fill="lighten" w="21600" h="30244">
                <a:moveTo>
                  <a:pt x="0" y="30244"/>
                </a:moveTo>
                <a:lnTo>
                  <a:pt x="0" y="0"/>
                </a:lnTo>
                <a:lnTo>
                  <a:pt x="1350" y="1350"/>
                </a:lnTo>
                <a:lnTo>
                  <a:pt x="1350" y="28894"/>
                </a:lnTo>
                <a:close/>
              </a:path>
              <a:path fill="darken" w="21600" h="30244">
                <a:moveTo>
                  <a:pt x="14318" y="15122"/>
                </a:moveTo>
                <a:lnTo>
                  <a:pt x="3756" y="22166"/>
                </a:lnTo>
                <a:lnTo>
                  <a:pt x="3756" y="8078"/>
                </a:lnTo>
                <a:close/>
              </a:path>
              <a:path fill="darken" w="21600" h="30244">
                <a:moveTo>
                  <a:pt x="16173" y="8078"/>
                </a:moveTo>
                <a:lnTo>
                  <a:pt x="16173" y="22166"/>
                </a:lnTo>
                <a:lnTo>
                  <a:pt x="17844" y="22166"/>
                </a:lnTo>
                <a:lnTo>
                  <a:pt x="17844" y="8078"/>
                </a:lnTo>
                <a:close/>
              </a:path>
            </a:pathLst>
          </a:custGeom>
          <a:solidFill>
            <a:srgbClr val="f08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7274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4"/>
          <p:cNvSpPr/>
          <p:nvPr/>
        </p:nvSpPr>
        <p:spPr>
          <a:xfrm>
            <a:off x="0" y="-88920"/>
            <a:ext cx="9144000" cy="6959520"/>
          </a:xfrm>
          <a:prstGeom prst="rect">
            <a:avLst/>
          </a:prstGeom>
          <a:solidFill>
            <a:srgbClr val="e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14"/>
          <p:cNvSpPr/>
          <p:nvPr/>
        </p:nvSpPr>
        <p:spPr>
          <a:xfrm rot="9523800">
            <a:off x="3813120" y="991800"/>
            <a:ext cx="1596960" cy="1816200"/>
          </a:xfrm>
          <a:custGeom>
            <a:avLst/>
            <a:gdLst/>
            <a:ahLst/>
            <a:rect l="l" t="t" r="r" b="b"/>
            <a:pathLst>
              <a:path w="1597245" h="1816360">
                <a:moveTo>
                  <a:pt x="509269" y="1761714"/>
                </a:moveTo>
                <a:cubicBezTo>
                  <a:pt x="98297" y="1601750"/>
                  <a:pt x="-105314" y="1139246"/>
                  <a:pt x="54492" y="728682"/>
                </a:cubicBezTo>
                <a:cubicBezTo>
                  <a:pt x="194321" y="369439"/>
                  <a:pt x="566059" y="168996"/>
                  <a:pt x="932129" y="231662"/>
                </a:cubicBezTo>
                <a:lnTo>
                  <a:pt x="1031088" y="259138"/>
                </a:lnTo>
                <a:lnTo>
                  <a:pt x="1086534" y="0"/>
                </a:lnTo>
                <a:lnTo>
                  <a:pt x="1219736" y="342121"/>
                </a:lnTo>
                <a:lnTo>
                  <a:pt x="1232066" y="348408"/>
                </a:lnTo>
                <a:cubicBezTo>
                  <a:pt x="1544173" y="549712"/>
                  <a:pt x="1682583" y="948722"/>
                  <a:pt x="1542753" y="1307965"/>
                </a:cubicBezTo>
                <a:cubicBezTo>
                  <a:pt x="1382948" y="1718528"/>
                  <a:pt x="920242" y="1921679"/>
                  <a:pt x="509269" y="17617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9"/>
          <p:cNvSpPr/>
          <p:nvPr/>
        </p:nvSpPr>
        <p:spPr>
          <a:xfrm>
            <a:off x="1927080" y="3132000"/>
            <a:ext cx="52898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微软雅黑"/>
              </a:rPr>
              <a:t>THANKS TO LI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1927080" y="3701880"/>
            <a:ext cx="52898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【</a:t>
            </a: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谢谢大家聆听</a:t>
            </a: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2"/>
          <p:cNvSpPr/>
          <p:nvPr/>
        </p:nvSpPr>
        <p:spPr>
          <a:xfrm>
            <a:off x="2136600" y="3676680"/>
            <a:ext cx="4896000" cy="0"/>
          </a:xfrm>
          <a:prstGeom prst="line">
            <a:avLst/>
          </a:prstGeom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18"/>
          <p:cNvSpPr/>
          <p:nvPr/>
        </p:nvSpPr>
        <p:spPr>
          <a:xfrm>
            <a:off x="4068720" y="5105520"/>
            <a:ext cx="11736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19"/>
          <p:cNvSpPr/>
          <p:nvPr/>
        </p:nvSpPr>
        <p:spPr>
          <a:xfrm>
            <a:off x="4365720" y="5105520"/>
            <a:ext cx="1159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20"/>
          <p:cNvSpPr/>
          <p:nvPr/>
        </p:nvSpPr>
        <p:spPr>
          <a:xfrm>
            <a:off x="4662360" y="5105520"/>
            <a:ext cx="1159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22"/>
          <p:cNvSpPr/>
          <p:nvPr/>
        </p:nvSpPr>
        <p:spPr>
          <a:xfrm>
            <a:off x="4957920" y="5105520"/>
            <a:ext cx="11736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13"/>
          <p:cNvSpPr/>
          <p:nvPr/>
        </p:nvSpPr>
        <p:spPr>
          <a:xfrm>
            <a:off x="3860640" y="1079640"/>
            <a:ext cx="1422720" cy="1422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"/>
          <p:cNvSpPr/>
          <p:nvPr/>
        </p:nvSpPr>
        <p:spPr>
          <a:xfrm>
            <a:off x="674280" y="333360"/>
            <a:ext cx="7290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段想象惊艳另一段想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4"/>
          <p:cNvSpPr/>
          <p:nvPr/>
        </p:nvSpPr>
        <p:spPr>
          <a:xfrm>
            <a:off x="7588080" y="2492280"/>
            <a:ext cx="729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个梦唤醒另一个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08ca1"/>
              </a:solidFill>
              <a:latin typeface="幼圆"/>
            </a:endParaRPr>
          </a:p>
        </p:txBody>
      </p:sp>
      <p:pic>
        <p:nvPicPr>
          <p:cNvPr id="129" name="Picture 4" descr="u=4233926744,4122306700&amp;fm=21&amp;gp=0"/>
          <p:cNvPicPr/>
          <p:nvPr/>
        </p:nvPicPr>
        <p:blipFill>
          <a:blip r:embed="rId1"/>
          <a:stretch/>
        </p:blipFill>
        <p:spPr>
          <a:xfrm>
            <a:off x="36360" y="-98280"/>
            <a:ext cx="9107640" cy="698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2008122143538233_1"/>
          <p:cNvPicPr/>
          <p:nvPr/>
        </p:nvPicPr>
        <p:blipFill>
          <a:blip r:embed="rId2"/>
          <a:stretch/>
        </p:blipFill>
        <p:spPr>
          <a:xfrm>
            <a:off x="4068720" y="5229360"/>
            <a:ext cx="1906560" cy="1892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6608733_131207080000_2"/>
          <p:cNvPicPr/>
          <p:nvPr/>
        </p:nvPicPr>
        <p:blipFill>
          <a:blip r:embed="rId3"/>
          <a:stretch/>
        </p:blipFill>
        <p:spPr>
          <a:xfrm>
            <a:off x="971640" y="5373720"/>
            <a:ext cx="129528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3635280" y="242100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线条的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132N9B05H0-25052"/>
          <p:cNvPicPr/>
          <p:nvPr/>
        </p:nvPicPr>
        <p:blipFill>
          <a:blip r:embed="rId4"/>
          <a:stretch/>
        </p:blipFill>
        <p:spPr>
          <a:xfrm>
            <a:off x="6661080" y="4005360"/>
            <a:ext cx="2374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385c"/>
                </a:solidFill>
                <a:latin typeface="楷体_GB2312"/>
                <a:ea typeface="楷体_GB2312"/>
              </a:rPr>
              <a:t>一个梦唤醒另一个梦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63640" y="1844280"/>
            <a:ext cx="280836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2824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谁？</a:t>
            </a:r>
            <a:endParaRPr b="0" lang="en-US" sz="6000" spc="-1" strike="noStrike">
              <a:solidFill>
                <a:srgbClr val="f08ca1"/>
              </a:solidFill>
              <a:latin typeface="幼圆"/>
            </a:endParaRPr>
          </a:p>
          <a:p>
            <a:pPr marL="22824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40422"/>
                </a:solidFill>
                <a:latin typeface="幼圆"/>
                <a:ea typeface="楷体_GB2312"/>
              </a:rPr>
              <a:t>……</a:t>
            </a:r>
            <a:endParaRPr b="0" lang="en-US" sz="6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1957320"/>
            <a:ext cx="439272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40422"/>
                </a:solidFill>
                <a:latin typeface="幼圆"/>
                <a:ea typeface="楷体_GB2312"/>
              </a:rPr>
              <a:t>想象</a:t>
            </a:r>
            <a:endParaRPr b="0" lang="en-US" sz="4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749680" y="3986280"/>
            <a:ext cx="36590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a855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08ca1"/>
              </a:solidFill>
              <a:latin typeface="幼圆"/>
            </a:endParaRPr>
          </a:p>
        </p:txBody>
      </p:sp>
      <p:pic>
        <p:nvPicPr>
          <p:cNvPr id="140" name="Picture 4" descr="a0001673570"/>
          <p:cNvPicPr/>
          <p:nvPr/>
        </p:nvPicPr>
        <p:blipFill>
          <a:blip r:embed="rId1"/>
          <a:stretch/>
        </p:blipFill>
        <p:spPr>
          <a:xfrm>
            <a:off x="34920" y="-98280"/>
            <a:ext cx="5716440" cy="5715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01300000342079125249730752658"/>
          <p:cNvPicPr/>
          <p:nvPr/>
        </p:nvPicPr>
        <p:blipFill>
          <a:blip r:embed="rId2"/>
          <a:stretch/>
        </p:blipFill>
        <p:spPr>
          <a:xfrm>
            <a:off x="5651640" y="2781360"/>
            <a:ext cx="2952720" cy="3386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6012000" y="220500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谢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希尔弗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0160" y="-385920"/>
            <a:ext cx="784872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冰冻的梦</a:t>
            </a:r>
            <a:br>
              <a:rPr sz="2400"/>
            </a:br>
            <a:r>
              <a:rPr b="1" lang="zh-CN" sz="24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           </a:t>
            </a:r>
            <a:br>
              <a:rPr sz="2400"/>
            </a:br>
            <a:r>
              <a:rPr b="1" lang="zh-CN" sz="24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               </a:t>
            </a:r>
            <a:r>
              <a:rPr b="1" lang="zh-CN" sz="32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谢尔</a:t>
            </a:r>
            <a:r>
              <a:rPr b="1" lang="zh-CN" sz="3200" spc="-1" strike="noStrike">
                <a:solidFill>
                  <a:srgbClr val="940422"/>
                </a:solidFill>
                <a:latin typeface="楷体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希尔弗斯坦</a:t>
            </a:r>
            <a:endParaRPr b="0" lang="en-US" sz="32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8ca1"/>
                </a:solidFill>
                <a:latin typeface="幼圆"/>
              </a:rPr>
              <a:t>   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656880" y="1839960"/>
            <a:ext cx="286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我要把昨天我做的梦，拿到冰箱里冷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到遥远的一天，我变成了白发苍苍的老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我就把这个可爱的美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拿出来解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然后把它煮沸，坐下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浸暖冰冷的双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40000" y="1957320"/>
            <a:ext cx="439272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40422"/>
                </a:solidFill>
                <a:latin typeface="幼圆"/>
                <a:ea typeface="楷体_GB2312"/>
              </a:rPr>
              <a:t>合理</a:t>
            </a:r>
            <a:endParaRPr b="0" lang="en-US" sz="4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749680" y="3986280"/>
            <a:ext cx="36590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a855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楷体_GB2312"/>
                <a:ea typeface="楷体"/>
              </a:rPr>
              <a:t>一个梦唤醒另一个梦</a:t>
            </a:r>
            <a:endParaRPr b="0" lang="en-US" sz="44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781080" y="1057320"/>
            <a:ext cx="206388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40422"/>
                </a:solidFill>
                <a:latin typeface="幼圆"/>
                <a:ea typeface="楷体"/>
              </a:rPr>
              <a:t>梦</a:t>
            </a:r>
            <a:endParaRPr b="0" lang="en-US" sz="4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411280" y="2421000"/>
            <a:ext cx="5400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40422"/>
                </a:solidFill>
                <a:uFillTx/>
                <a:latin typeface="幼圆"/>
                <a:ea typeface="楷体"/>
              </a:rPr>
              <a:t>       </a:t>
            </a:r>
            <a:r>
              <a:rPr b="0" lang="zh-CN" sz="4000" spc="-1" strike="noStrike">
                <a:solidFill>
                  <a:srgbClr val="940422"/>
                </a:solidFill>
                <a:latin typeface="幼圆"/>
                <a:ea typeface="楷体"/>
              </a:rPr>
              <a:t>的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076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的梦是</a:t>
            </a:r>
            <a:r>
              <a:rPr b="0" lang="zh-CN" sz="40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楷体_GB2312"/>
                <a:ea typeface="楷体"/>
              </a:rPr>
              <a:t>一个梦唤醒另一个梦</a:t>
            </a:r>
            <a:endParaRPr b="0" lang="en-US" sz="44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8ca1"/>
                </a:solidFill>
                <a:latin typeface="幼圆"/>
              </a:rPr>
              <a:t> 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54" name=""/>
          <p:cNvSpPr/>
          <p:nvPr/>
        </p:nvSpPr>
        <p:spPr>
          <a:xfrm>
            <a:off x="1943280" y="2538360"/>
            <a:ext cx="58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的梦是调皮的音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4073400"/>
            <a:ext cx="58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叶子的梦是一条小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6920" y="1341360"/>
            <a:ext cx="46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2800" spc="-1" strike="noStrike">
                <a:solidFill>
                  <a:srgbClr val="940422"/>
                </a:solidFill>
                <a:latin typeface="楷体"/>
                <a:ea typeface="楷体"/>
              </a:rPr>
              <a:t>的梦是</a:t>
            </a:r>
            <a:r>
              <a:rPr b="0" lang="zh-CN" sz="28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2800" spc="-1" strike="noStrike">
                <a:solidFill>
                  <a:srgbClr val="940422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12:18:08Z</dcterms:created>
  <dc:creator>Administrator</dc:creator>
  <dc:description/>
  <dc:language>en-US</dc:language>
  <cp:lastModifiedBy>tw</cp:lastModifiedBy>
  <dcterms:modified xsi:type="dcterms:W3CDTF">2015-10-19T17:15:10Z</dcterms:modified>
  <cp:revision>10</cp:revision>
  <dc:subject/>
  <dc:title>一个梦 唤醒 另一个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